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E3F-8C3F-42F8-B002-DE14B470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E39-E37C-4441-88C1-037B92BE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1CA8B-4654-47E1-9F58-AFD78322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B5A9A-861A-4986-B6FF-4DF95229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FF266-9C4B-4177-AA48-58CBACFF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411FA-E850-44C6-BE50-43D2A627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6882F-EDC4-4C76-A3EA-BFB64466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F79E0-4886-4457-A59D-86D09ABD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E1172-3F83-4F68-AABD-0F6BA9AE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4729A-DE74-4E02-A327-3E52D99F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DA878-C683-4A89-82E9-7C584565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A9C4D-E594-4434-A8C1-DADBD2EB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2B5-506F-4B5A-9D5A-027A77B1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54784-7D8B-4BAB-8642-835FF42F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565C6-D830-44C0-8A38-6B0CAEEB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024A2-B6A2-471F-9EB2-F5983A8B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20D33-EC9B-4F06-A204-4EF5A9D4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FE76A-EF9D-4712-9FB9-0C2DBBF4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36751-DB71-4FCC-BBE8-23E7A80F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5F766-EA34-4619-BF70-AA0CECF9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5E191-1BF0-4CAD-B7C6-A8D7D55B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07455-D48B-4592-95BC-40BDD00B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3BC0B-FAA7-456F-9B68-F86C27B5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FF25-60C8-4CF3-A711-601B4BD7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8A492-657D-4629-96D5-E496F5C9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6E512-35D1-4210-BB13-F8463708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42E96-666E-405D-8D36-FAA1B120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1B731-BE20-4A7A-BD68-AA573F45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F18C7-D417-4211-874E-07F6D9F5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BBF0F-6473-4957-B1B9-BAAA26C3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4D4A2-6FF1-4185-BAFF-D28A5EE7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D36B1-2188-4987-93EE-5D7CD99E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50550-7778-4663-9FE5-C5DDFC20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62170-8FED-49AB-9AD2-45400994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88A2-7F5F-4667-A5A1-58F60856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6AD80-AB52-4A80-BBD7-1EA30E87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C0473-0439-473C-AF01-383A9E7B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30178-C80B-4790-9691-548C8585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52416-9A27-4262-8F2C-ACF63A78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FE7AD-24B0-4DBF-9301-EDA90B22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B9771-750E-4E9E-A50F-17933C1C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06D78-A992-4C34-B5C6-40420C73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7C9E4-F919-479C-B4E7-ED0A46EE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58D50-59A2-4528-96FA-8C206148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E9125-B540-41BF-8962-0B8CDC80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BA65-FBCE-4C55-A238-360AD518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E9F13-385B-4B8C-B488-471E8E9D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CC2F9-E96D-4096-BBA9-FEC95797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1633B-0C6E-4E6C-B333-1DD20B83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9C642-E2D5-44B8-8234-4BAA9F63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FD72E-367A-449C-96E2-EC7E5A60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F55597-8D22-421A-9867-B7899A31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735B54-D410-4C9B-9CB8-6A662D3C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0D54CA-921D-4A03-A173-E0F29624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AF1E3-41DD-47B9-936C-C66894F2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08ACA-8DD4-4159-97FC-AB1392CE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01CD-397D-406C-A7E3-3804B116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D3A75D-421B-4CD6-AD8A-4DA9797C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4CD9B-F217-47D0-ACFF-C4D2751C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86B5E1-5751-4013-9572-727FDE29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C65EC-8EBC-417C-B74E-6DCB0163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10149-4A55-4496-9EA6-59647357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659B3-5FF9-4B99-9A9C-7F36839A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C6D97C-34C8-4C91-9D29-F9E153DF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4BE15-0740-4EA5-80CB-E862161C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33694-EF9A-4790-87E1-0DF514C8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5E2646-4276-4E6F-9CB4-E00201AB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979E-0100-4CDF-8122-D978D7C1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96A00C-2DFB-464C-8187-A0449FB4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268E4-6F58-4616-B224-03EEE021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4CDF4C-4D07-4938-86AD-ACF39A42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7A2E8C-2F12-4AB0-88CC-ACC4EDCF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DDABF5-CB0C-4071-ABC7-FBEF0F3E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0647D-8CC9-4ABF-BCC2-8610AD74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39B395-571F-47C7-9D7A-B4D6BE20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FDA1A-A631-4358-9490-992F5BF7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B9095-AD0A-4155-8280-FFFF9C17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59B54-A9D1-4E5D-BEB0-C0DEDE81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4891E-59BB-4D33-9B61-44969CAD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0D684F-8C35-4842-8803-8F728583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ADE7B0-4A1B-45EF-861F-C96C0256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C77420-1CD5-43B0-918C-BCE8DD52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E17D1E-762A-4D24-8134-841FFDAF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DA3F10-8B03-4B1F-B591-60AAE047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9448A3-405A-46FB-BF35-2B0987FD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803971-A009-49FD-ABE7-D5E2F1A7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D9223-BE06-4A37-AA23-B871CE9D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691EAA-AAA5-4680-BE21-D7633FD4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CF410F-1775-4081-BD7B-1FF4CE03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DC86-45B3-45B9-A0F2-95DA38E2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037D34-7852-45E1-9D78-3A681352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5B838A-D0A6-4A6B-8C30-4112D399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FD483F-CA8D-452A-A534-57CD446F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A5B70-02C9-40CC-B518-15091F48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CC303C-BD39-402E-A8B9-ADEDEE04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66576F-94D3-4A6C-87EF-497A139C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7C5E0A-02E4-4107-B637-4495CC58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2DCA7D-43B1-43E5-9D6C-F1D219A8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A97978-75B6-4202-9336-DAE70DE1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A454DB-74EE-4BA1-805D-2E06C6B6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38FD-0128-4649-A156-0AB7C3D8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88514-3114-48B1-A3D2-F4324B64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53BC88-6478-4BFE-933C-1E3D8471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84DD83-9479-475C-85ED-0959CC65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0A7887-6068-4BD6-9F01-5F4A48F8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D5A51D-A0A1-4BD3-AE8E-7365C167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DA6C12-88D1-4F65-A0C8-1C7525DC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26D115-ADAA-4CDB-8BFD-3BE0EB0F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2E0B60-AF2D-4578-9F23-19EFF358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AB885E-6E7F-49B1-B0FA-EB24E751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322C42-D7E7-4EF9-99FA-ED6459A1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123-0107-4DA8-9566-2350B22E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C9A0-0A34-4F9C-A3C7-1B41DC4D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59D941-DC82-47CB-819C-108ADF95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FEB137-0CC9-4FB8-86DD-7FA656B1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0A2EB1-DBA8-4BAF-9256-B14CD930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489DF2-C59B-4941-8EDF-1CAD20A6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6A0885-D4B6-4773-B62D-B4A85849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F2069A-0F45-4361-9C87-6176FEC7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9ECA8E-3296-429F-B42C-B4E4FEE8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2E9CBD-6C97-47B7-AE78-2EAB211A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224C64-49EC-4A9D-B8C8-DDAF0D04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2D0DB3-16CA-4C57-99A0-0DC7576A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17BA-A013-4E69-80B5-EBF6BE43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ADE03F-C687-49FD-8CCA-88177F5F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898EBD-D995-432E-A433-4B90ED95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A9E23E-0D1B-4520-A867-4FAAD457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FD9937-BE41-4CF6-B9DC-DD47A61A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1C9695-A528-4C4E-AA9B-5F36C1FC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C21FF5-9FA7-458B-91E8-4374163A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736FCF-4DF9-41A2-9FF1-15DFB465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7E66B6-5670-4F29-9970-125A4492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6E2325-00C6-4A1B-ADB7-D71701C4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E02D29-65C4-4664-A2E6-7B62CB09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2C8B-BA75-4E60-88A4-B41C05A7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07A079-9267-4D16-8A22-F8648E35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2788B1-C725-4422-B190-F18E7D55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583ACD-E572-4766-B906-F0E7821B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72A9EE-F9FA-4FAE-80D7-0DA8D05C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1A4FFC-E5D0-47A4-BBB7-1A90EC68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EC7E4C-9D26-4DC5-B681-431DD571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F43AAD-74A6-434C-BDEA-270FCDB0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ED5C53-D606-4962-A0C3-D1052C6A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F70CA1-A75E-4062-A26D-6C102318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A934B2-48F3-40A1-BEB6-DF8D1BCF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A6C5-B88E-4CC6-AEF8-C6C9FACA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F0428C-F40A-42BD-88EE-2C035685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FE2E13-0918-450F-AF2A-03C51833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E642D7-B5CE-4EDD-9049-854C6864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A26058-C6B9-4E18-A9CB-EF1AE67E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31AC27-AB50-4351-B605-BDCDAFD1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37A6A7-27DC-41E6-9F28-6D969A8D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EB7832-44CE-43C5-BBFE-A1A9BA4A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B59F5E-2736-45F9-BB49-F670AFA5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226AAE-BAEF-47CD-BFC7-84D2F0CD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6742FB-4F34-4879-A467-7FEF8BE5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88C5-3886-4445-BF44-B8B87704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C48D03-5997-417B-8387-57A1E3DF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16467F-DB40-4440-9368-FF0F27A01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F6D7C4-6F32-4301-A45A-02F05A92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532EC2-1A3D-4374-B3D5-471E456A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9EBDF6-9563-4B6B-88CB-C47807C8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63876E-27BC-4D87-A018-208FF45E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AAAAFC-1667-4C30-9747-0167ABA1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77F581-0161-4531-9A46-6CCC1B5A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8A739F-4800-4DF4-8A97-97972EEA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FF6207-9AA2-4EA1-9465-EA97E463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40408-C670-43A5-9D04-1E038394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615EAF-8E08-4920-A260-082AB3FE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E6DB4F-9F6D-4186-9120-1D104C3B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024B36-9607-4090-9F70-B6591DCD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E4BD8-0167-4430-9CB5-693A134A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C294B-3E94-4831-9725-2F8E21FA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28FEC-3CCB-4219-8E09-906E339C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D21CA-A611-44A6-A5AA-F1C7BED7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580-EE1E-45FF-99A1-3AC14850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412D9-0F3E-4A56-B7F2-64F5F071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A2013-7DB7-462E-AC62-BE07688E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0198D-7CB6-4EF5-AFBC-01C96FC1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CFDD1-BDE6-42B0-973D-9F654AEE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1B6B6-E2D5-4B66-94B1-657DE054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D1EA9-233D-41EB-A365-0B4115A0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FD353-8E0E-497A-AE72-30814639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C1142-3119-4853-A8D2-FB1E85CE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632A0-4D02-4049-AFEA-50CE02A7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B45A9-754F-4CBD-BE6B-E127AD35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6CE-AABA-497D-AF45-A35AA855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F0988-E8FB-4892-82F8-4188CA0F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8B371-A241-40A8-9996-8898A13C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7BBF1-24C7-464D-9E38-31CD7638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DFCE3-F370-4C47-85D4-636B0EB4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DC3AB-6309-4B76-9EF6-67F7E634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4D6C9-4EE7-425D-9348-D5393F4B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B4D7F-C133-47A9-B0CE-BDAEEF51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7C334-4DDB-4863-9A5B-FC24C4D2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6D7F6-6D17-4122-831A-0C939B3E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DDD55-79D1-45DD-8A4B-0568FC2A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7BE3-FC96-452B-B15D-9EFCD1B2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8C4E2-F7C4-442B-BE17-37380B53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388E5-44B7-4FF2-83D7-3C50C46E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9C9C6-16D8-414E-866D-888D4DEE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45E86-6B6D-48FC-87A5-79C30546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4497F-5376-4250-A87B-74AD2D2C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5B7CB-48DD-46F4-8333-62A3C617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31B49-FC24-44D1-AC57-030BFC3A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702CC-D47A-42F2-ADD8-12C4650D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0EF9D-5FEB-4ACA-86A9-C55898FC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7134F-0773-44A4-A3D9-1EAD886A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4C68-41BB-45FD-86A9-DED3BC26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40446-5261-4A5C-A3CB-2FEF70C5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D1839-3AC1-4071-BAA4-B184C88D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BBDDE-A6C8-4A66-B336-9E34E046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A7FE6-D0D6-4007-913F-B4952351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F2061-0FBD-4C05-951F-37C03348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CC231-86B0-479C-A970-7BE4B0C9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8DD83-2D8B-4EBC-B125-3811D507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C9EA0-5289-4450-AF12-4BE2A25B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F060E-CD1B-43B3-9CFC-128BA555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DCED3-7F56-4486-A983-5B623655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922-8897-49A8-995D-C14DAE04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99CEF-CF60-4EC0-B1D3-89EFF48C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F41AB-1E56-401C-B7DB-336468C8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000D4-C4AE-4F0F-9039-94A4612F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F32E1-5D8A-4DEE-BC1E-3F6344AE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D1075-B2BD-410E-90AD-73CB41FF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DC8D3-53DD-4AE8-B97D-3B656E41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2D0F2-FA4D-4C4D-BC81-29B7B906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BBA99-CB8A-4750-BC0C-8882D5E5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884FB-74A8-47DE-B565-261F3AA6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521CC-C942-4845-893C-EFB54E19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BB0-10A4-4E2A-A602-F9D4004C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2A36C-9280-4897-8B86-50379074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B0091-1087-4FD8-A5F6-BB9E575D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8AB15-B194-4D4E-8839-4A33EB1E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79B09-F886-461B-8B6D-31748502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FFBB7-4127-486B-B4AE-9310FE66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FF212-C638-473A-8475-A7B4FE84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CB504-EB99-4634-A145-019B7369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732D3-E7E8-4A29-82F1-65A31A76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24C44-5D89-4C7B-BBB0-87921DA5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13E18-2E46-442F-ADCA-7B96B3D7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11F2-2644-4E8C-8231-7DCCBBD2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D06F6-8FE4-40FA-A0B5-A939328C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A02DD-840E-4D34-9AFA-FA8FC86C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B4ED1-B8EF-4214-8A94-DE7DA881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F8541-BF91-47FB-B191-F347B510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FDB31-5E43-4988-A321-45D67DC0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3D143-3371-4986-991F-E2CCCA9C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B459A-70B4-48F3-AD31-AD20D2B20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4533E-FDBA-41D3-8B8A-A6AAF60E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B3712-B488-42C0-B691-6C1BD56E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FFA89-A092-4A4F-8E85-5F2B31D9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A7F3-874C-4A96-9DC2-0AF8D2B80D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7C3F-1D73-47A2-9D67-162036008D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1697-A89E-41BD-B70F-30487B100A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D110-6FA7-405F-A6D1-FDCAA3A021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394D-8252-43C9-90E3-596F41AB1F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E4BF-5315-497A-8929-307DDE8A54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64AF-6263-4C5A-8A76-D4E6E3272F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4F99-4C91-4418-9A9E-6DF3A4C8AB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D9EF-12F6-4D54-B4A8-937053307E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A6D2-2712-4425-ABAF-3ABE050C82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C106-9197-49C2-83FE-AD5438A872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D07A-5EF8-440D-8459-6FE6B646DC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D70E-97FB-48E8-A50F-0B54A7FAE9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3CF6-CC34-48F2-853B-A527D87958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7321-6E63-42DD-BA87-DEA8529F88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38DE-4E76-4636-9C44-4CF654D815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47D4-68E7-4569-86B9-D9D283E57D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2A97-7024-45AC-98F2-302E99BEEF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4104-D89F-4131-ADAD-EA8CE5AF51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8592-AC18-4873-8713-56477FD482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F46C-5FB2-4B0B-9D2C-A4787FF3C7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500C-3109-4D79-96C9-3049CBF7FE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0E6D-EFFD-48B0-BF9D-3BB61B3524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8572-C340-4DAB-9555-8F11284EBE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0B06-098C-4C80-9E5B-E506297C87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7862-FCFA-432D-84FD-97D8BAF3B7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1DD1-7729-4896-A91D-BC827A43CB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F4AC-B0E9-43F3-B345-5BFAFE059C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E9EF-1AF1-4C6B-87A3-61191E8323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05DE-8E13-4987-B8B4-493BDEC6EE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E968-F955-4762-86F6-6A4499C637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D64A-FD8A-4AA8-BD56-7689638DAD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8FAA-0CB3-4CDF-B9D5-BAD9F415F0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0A7C-2C33-4279-BD0F-E61D545642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6434-AA91-4400-92F3-F0A8209E0E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D6A3-1A25-48DD-94AF-B4ACBA8B2F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B3AC-B71F-436A-A4A2-1ED6800A6F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8E5F-966C-4E47-AA18-7505434D48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58DC-C154-4079-B809-1706CDCA0A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654A-3402-4F66-BAC9-99FDDD8D8D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22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2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747800" y="2054160"/>
            <a:ext cx="5648400" cy="94320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79" descr=""/>
          <p:cNvPicPr/>
          <p:nvPr/>
        </p:nvPicPr>
        <p:blipFill>
          <a:blip r:embed="rId2"/>
          <a:stretch/>
        </p:blipFill>
        <p:spPr>
          <a:xfrm>
            <a:off x="334800" y="3660840"/>
            <a:ext cx="848520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60428" descr=""/>
          <p:cNvPicPr/>
          <p:nvPr/>
        </p:nvPicPr>
        <p:blipFill>
          <a:blip r:embed="rId1"/>
          <a:stretch/>
        </p:blipFill>
        <p:spPr>
          <a:xfrm>
            <a:off x="258840" y="189000"/>
            <a:ext cx="8705880" cy="6276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611280" y="2017800"/>
            <a:ext cx="1657080" cy="423720"/>
          </a:xfrm>
          <a:prstGeom prst="rect">
            <a:avLst/>
          </a:prstGeom>
          <a:ln w="0">
            <a:noFill/>
          </a:ln>
        </p:spPr>
      </p:pic>
      <p:pic>
        <p:nvPicPr>
          <p:cNvPr id="1026" name="图片 60430" descr=""/>
          <p:cNvPicPr/>
          <p:nvPr/>
        </p:nvPicPr>
        <p:blipFill>
          <a:blip r:embed="rId3"/>
          <a:stretch/>
        </p:blipFill>
        <p:spPr>
          <a:xfrm>
            <a:off x="6300720" y="1943280"/>
            <a:ext cx="2552760" cy="21524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2340000" y="2003400"/>
            <a:ext cx="3600360" cy="4237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511200" y="2565360"/>
            <a:ext cx="936720" cy="4240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1476360" y="2579760"/>
            <a:ext cx="3887640" cy="4237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7"/>
          <a:stretch/>
        </p:blipFill>
        <p:spPr>
          <a:xfrm>
            <a:off x="5364000" y="2565360"/>
            <a:ext cx="720720" cy="4240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8"/>
          <a:stretch/>
        </p:blipFill>
        <p:spPr>
          <a:xfrm>
            <a:off x="554040" y="3156120"/>
            <a:ext cx="3384720" cy="4237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9"/>
          <a:stretch/>
        </p:blipFill>
        <p:spPr>
          <a:xfrm>
            <a:off x="3995640" y="3141720"/>
            <a:ext cx="2232000" cy="4237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10"/>
          <a:stretch/>
        </p:blipFill>
        <p:spPr>
          <a:xfrm>
            <a:off x="539640" y="3730680"/>
            <a:ext cx="5545080" cy="4237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11"/>
          <a:stretch/>
        </p:blipFill>
        <p:spPr>
          <a:xfrm>
            <a:off x="611280" y="4351320"/>
            <a:ext cx="3960720" cy="4237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12"/>
          <a:stretch/>
        </p:blipFill>
        <p:spPr>
          <a:xfrm>
            <a:off x="4572000" y="4307040"/>
            <a:ext cx="1440000" cy="4237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3"/>
          <a:stretch/>
        </p:blipFill>
        <p:spPr>
          <a:xfrm>
            <a:off x="698400" y="4883040"/>
            <a:ext cx="4103640" cy="4240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4"/>
          <a:stretch/>
        </p:blipFill>
        <p:spPr>
          <a:xfrm>
            <a:off x="4859280" y="4869000"/>
            <a:ext cx="4105440" cy="4237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5"/>
          <a:stretch/>
        </p:blipFill>
        <p:spPr>
          <a:xfrm>
            <a:off x="539640" y="5445000"/>
            <a:ext cx="6769080" cy="4240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6"/>
          <a:stretch/>
        </p:blipFill>
        <p:spPr>
          <a:xfrm>
            <a:off x="7365960" y="5445000"/>
            <a:ext cx="1440000" cy="4240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7"/>
          <a:stretch/>
        </p:blipFill>
        <p:spPr>
          <a:xfrm>
            <a:off x="468360" y="6021360"/>
            <a:ext cx="67690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59410" descr=""/>
          <p:cNvPicPr/>
          <p:nvPr/>
        </p:nvPicPr>
        <p:blipFill>
          <a:blip r:embed="rId1"/>
          <a:stretch/>
        </p:blipFill>
        <p:spPr>
          <a:xfrm>
            <a:off x="223920" y="1386000"/>
            <a:ext cx="8696160" cy="40860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5616720" cy="4240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539640" y="3141720"/>
            <a:ext cx="3745080" cy="4237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4356000" y="3127320"/>
            <a:ext cx="1871640" cy="4240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468360" y="3701880"/>
            <a:ext cx="5688000" cy="4240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468360" y="4292640"/>
            <a:ext cx="2592360" cy="4237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7"/>
          <a:stretch/>
        </p:blipFill>
        <p:spPr>
          <a:xfrm>
            <a:off x="3059280" y="4264200"/>
            <a:ext cx="3097080" cy="4237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8"/>
          <a:stretch/>
        </p:blipFill>
        <p:spPr>
          <a:xfrm>
            <a:off x="324000" y="4869000"/>
            <a:ext cx="568800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58373" descr=""/>
          <p:cNvPicPr/>
          <p:nvPr/>
        </p:nvPicPr>
        <p:blipFill>
          <a:blip r:embed="rId1"/>
          <a:stretch/>
        </p:blipFill>
        <p:spPr>
          <a:xfrm>
            <a:off x="228600" y="874800"/>
            <a:ext cx="8686800" cy="53625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611280" y="2198520"/>
            <a:ext cx="2232000" cy="42408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58375" descr=""/>
          <p:cNvPicPr/>
          <p:nvPr/>
        </p:nvPicPr>
        <p:blipFill>
          <a:blip r:embed="rId3"/>
          <a:stretch/>
        </p:blipFill>
        <p:spPr>
          <a:xfrm>
            <a:off x="6315120" y="2058840"/>
            <a:ext cx="2571840" cy="23529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2843280" y="2133720"/>
            <a:ext cx="3241440" cy="4237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684360" y="2766960"/>
            <a:ext cx="3241440" cy="4240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6"/>
          <a:stretch/>
        </p:blipFill>
        <p:spPr>
          <a:xfrm>
            <a:off x="684360" y="3284640"/>
            <a:ext cx="3240000" cy="4237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232000" cy="4237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8"/>
          <a:stretch/>
        </p:blipFill>
        <p:spPr>
          <a:xfrm>
            <a:off x="611280" y="3860640"/>
            <a:ext cx="3241440" cy="4240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9"/>
          <a:stretch/>
        </p:blipFill>
        <p:spPr>
          <a:xfrm>
            <a:off x="3851280" y="3875040"/>
            <a:ext cx="2232000" cy="4240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10"/>
          <a:stretch/>
        </p:blipFill>
        <p:spPr>
          <a:xfrm>
            <a:off x="611280" y="4451400"/>
            <a:ext cx="5473440" cy="4237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11"/>
          <a:stretch/>
        </p:blipFill>
        <p:spPr>
          <a:xfrm>
            <a:off x="612720" y="5027760"/>
            <a:ext cx="2879640" cy="4237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12"/>
          <a:stretch/>
        </p:blipFill>
        <p:spPr>
          <a:xfrm>
            <a:off x="3492360" y="5027760"/>
            <a:ext cx="5651640" cy="4237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13"/>
          <a:stretch/>
        </p:blipFill>
        <p:spPr>
          <a:xfrm>
            <a:off x="539640" y="5589720"/>
            <a:ext cx="288000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57352" descr=""/>
          <p:cNvPicPr/>
          <p:nvPr/>
        </p:nvPicPr>
        <p:blipFill>
          <a:blip r:embed="rId1"/>
          <a:stretch/>
        </p:blipFill>
        <p:spPr>
          <a:xfrm>
            <a:off x="223920" y="752400"/>
            <a:ext cx="8696160" cy="5629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611280" y="1901880"/>
            <a:ext cx="2160360" cy="42372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57354" descr=""/>
          <p:cNvPicPr/>
          <p:nvPr/>
        </p:nvPicPr>
        <p:blipFill>
          <a:blip r:embed="rId3"/>
          <a:stretch/>
        </p:blipFill>
        <p:spPr>
          <a:xfrm>
            <a:off x="6875640" y="1828800"/>
            <a:ext cx="1971360" cy="19144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2771640" y="1873080"/>
            <a:ext cx="3816360" cy="4240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5"/>
          <a:stretch/>
        </p:blipFill>
        <p:spPr>
          <a:xfrm>
            <a:off x="539640" y="2449440"/>
            <a:ext cx="3168720" cy="4240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6"/>
          <a:stretch/>
        </p:blipFill>
        <p:spPr>
          <a:xfrm>
            <a:off x="3780000" y="2478240"/>
            <a:ext cx="2736720" cy="4237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7"/>
          <a:stretch/>
        </p:blipFill>
        <p:spPr>
          <a:xfrm>
            <a:off x="468360" y="3025800"/>
            <a:ext cx="3168720" cy="4237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8"/>
          <a:stretch/>
        </p:blipFill>
        <p:spPr>
          <a:xfrm>
            <a:off x="3649680" y="3068640"/>
            <a:ext cx="3009960" cy="4237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9"/>
          <a:stretch/>
        </p:blipFill>
        <p:spPr>
          <a:xfrm>
            <a:off x="395280" y="3602160"/>
            <a:ext cx="6192720" cy="4237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10"/>
          <a:stretch/>
        </p:blipFill>
        <p:spPr>
          <a:xfrm>
            <a:off x="468360" y="4164120"/>
            <a:ext cx="1150920" cy="4237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11"/>
          <a:stretch/>
        </p:blipFill>
        <p:spPr>
          <a:xfrm>
            <a:off x="1692360" y="4164120"/>
            <a:ext cx="4895640" cy="4237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12"/>
          <a:stretch/>
        </p:blipFill>
        <p:spPr>
          <a:xfrm>
            <a:off x="539640" y="4738680"/>
            <a:ext cx="5184720" cy="4237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13"/>
          <a:stretch/>
        </p:blipFill>
        <p:spPr>
          <a:xfrm>
            <a:off x="5796000" y="4738680"/>
            <a:ext cx="3024000" cy="4237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14"/>
          <a:stretch/>
        </p:blipFill>
        <p:spPr>
          <a:xfrm>
            <a:off x="539640" y="5359320"/>
            <a:ext cx="5688000" cy="4240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15"/>
          <a:stretch/>
        </p:blipFill>
        <p:spPr>
          <a:xfrm>
            <a:off x="6270480" y="5300640"/>
            <a:ext cx="2773440" cy="4237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16"/>
          <a:stretch/>
        </p:blipFill>
        <p:spPr>
          <a:xfrm>
            <a:off x="468360" y="5935680"/>
            <a:ext cx="648000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图片 56324" descr=""/>
          <p:cNvPicPr/>
          <p:nvPr/>
        </p:nvPicPr>
        <p:blipFill>
          <a:blip r:embed="rId1"/>
          <a:stretch/>
        </p:blipFill>
        <p:spPr>
          <a:xfrm>
            <a:off x="185760" y="592200"/>
            <a:ext cx="8772480" cy="61722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482760" y="1744560"/>
            <a:ext cx="2232000" cy="42408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56326" descr=""/>
          <p:cNvPicPr/>
          <p:nvPr/>
        </p:nvPicPr>
        <p:blipFill>
          <a:blip r:embed="rId3"/>
          <a:stretch/>
        </p:blipFill>
        <p:spPr>
          <a:xfrm>
            <a:off x="6429240" y="1684440"/>
            <a:ext cx="2381400" cy="22860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2757600" y="1758960"/>
            <a:ext cx="3398760" cy="4237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5"/>
          <a:stretch/>
        </p:blipFill>
        <p:spPr>
          <a:xfrm>
            <a:off x="468360" y="2349360"/>
            <a:ext cx="5688000" cy="4240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6"/>
          <a:stretch/>
        </p:blipFill>
        <p:spPr>
          <a:xfrm>
            <a:off x="324000" y="2909880"/>
            <a:ext cx="2016000" cy="4237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7"/>
          <a:stretch/>
        </p:blipFill>
        <p:spPr>
          <a:xfrm>
            <a:off x="2411280" y="2909880"/>
            <a:ext cx="3889440" cy="4237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8"/>
          <a:stretch/>
        </p:blipFill>
        <p:spPr>
          <a:xfrm>
            <a:off x="395280" y="3500280"/>
            <a:ext cx="2016000" cy="4240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9"/>
          <a:stretch/>
        </p:blipFill>
        <p:spPr>
          <a:xfrm>
            <a:off x="2484360" y="3500280"/>
            <a:ext cx="3889440" cy="4240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10"/>
          <a:stretch/>
        </p:blipFill>
        <p:spPr>
          <a:xfrm>
            <a:off x="468360" y="4019400"/>
            <a:ext cx="5616360" cy="4240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11"/>
          <a:stretch/>
        </p:blipFill>
        <p:spPr>
          <a:xfrm>
            <a:off x="466560" y="4610160"/>
            <a:ext cx="1081080" cy="4237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12"/>
          <a:stretch/>
        </p:blipFill>
        <p:spPr>
          <a:xfrm>
            <a:off x="1547640" y="4595760"/>
            <a:ext cx="7345440" cy="4240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13"/>
          <a:stretch/>
        </p:blipFill>
        <p:spPr>
          <a:xfrm>
            <a:off x="611280" y="5200560"/>
            <a:ext cx="2592360" cy="42408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14"/>
          <a:stretch/>
        </p:blipFill>
        <p:spPr>
          <a:xfrm>
            <a:off x="3276720" y="5186520"/>
            <a:ext cx="5543280" cy="4237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15"/>
          <a:stretch/>
        </p:blipFill>
        <p:spPr>
          <a:xfrm>
            <a:off x="611280" y="5748480"/>
            <a:ext cx="3600360" cy="42372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16"/>
          <a:stretch/>
        </p:blipFill>
        <p:spPr>
          <a:xfrm>
            <a:off x="4270320" y="5734080"/>
            <a:ext cx="4622760" cy="42372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17"/>
          <a:stretch/>
        </p:blipFill>
        <p:spPr>
          <a:xfrm>
            <a:off x="468360" y="6377040"/>
            <a:ext cx="51832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图片 55300" descr=""/>
          <p:cNvPicPr/>
          <p:nvPr/>
        </p:nvPicPr>
        <p:blipFill>
          <a:blip r:embed="rId1"/>
          <a:stretch/>
        </p:blipFill>
        <p:spPr>
          <a:xfrm>
            <a:off x="237960" y="890640"/>
            <a:ext cx="8668080" cy="50767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2"/>
          <a:stretch/>
        </p:blipFill>
        <p:spPr>
          <a:xfrm>
            <a:off x="611280" y="2046240"/>
            <a:ext cx="2520720" cy="42408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55302" descr=""/>
          <p:cNvPicPr/>
          <p:nvPr/>
        </p:nvPicPr>
        <p:blipFill>
          <a:blip r:embed="rId3"/>
          <a:stretch/>
        </p:blipFill>
        <p:spPr>
          <a:xfrm>
            <a:off x="5796000" y="1930320"/>
            <a:ext cx="3057480" cy="22669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4"/>
          <a:stretch/>
        </p:blipFill>
        <p:spPr>
          <a:xfrm>
            <a:off x="3203640" y="2060640"/>
            <a:ext cx="2305080" cy="42372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5"/>
          <a:stretch/>
        </p:blipFill>
        <p:spPr>
          <a:xfrm>
            <a:off x="468360" y="2637000"/>
            <a:ext cx="5040360" cy="4237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6"/>
          <a:stretch/>
        </p:blipFill>
        <p:spPr>
          <a:xfrm>
            <a:off x="539640" y="3170160"/>
            <a:ext cx="4824360" cy="42408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7"/>
          <a:stretch/>
        </p:blipFill>
        <p:spPr>
          <a:xfrm>
            <a:off x="395280" y="3730680"/>
            <a:ext cx="1655640" cy="4237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8"/>
          <a:stretch/>
        </p:blipFill>
        <p:spPr>
          <a:xfrm>
            <a:off x="2065320" y="3759120"/>
            <a:ext cx="3586320" cy="42408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9"/>
          <a:stretch/>
        </p:blipFill>
        <p:spPr>
          <a:xfrm>
            <a:off x="468360" y="4335480"/>
            <a:ext cx="4967280" cy="42372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10"/>
          <a:stretch/>
        </p:blipFill>
        <p:spPr>
          <a:xfrm>
            <a:off x="554040" y="4941720"/>
            <a:ext cx="4967280" cy="42408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11"/>
          <a:stretch/>
        </p:blipFill>
        <p:spPr>
          <a:xfrm>
            <a:off x="5508720" y="4883040"/>
            <a:ext cx="3384360" cy="42408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12"/>
          <a:stretch/>
        </p:blipFill>
        <p:spPr>
          <a:xfrm>
            <a:off x="468360" y="5516640"/>
            <a:ext cx="49672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7:47:1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